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363F-97A4-4D64-9307-DB19B894648D}" type="slidenum">
              <a:rPr b="0" lang="he-I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3969-BA88-42D9-83B6-6904F5AD8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93D-1F52-4AE1-996F-8CB37039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D1C-7F7F-4B7B-918F-3667E47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88C-1719-4A7E-97E4-3B3AF9FF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361-8859-4A45-A731-654D008F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9D0-A56C-4758-A3F5-9E75380C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7D4-D197-4C66-A40D-AC6DC439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47F-6008-4793-8ABE-C2758F0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A17-2431-4DC7-B501-8A0D2A3B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B71-E84A-49F0-BC83-76FE41D4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E65-24AB-4A09-B514-7B16B78F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3A3-8D18-42F4-8BAC-7801D24F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F2A-0C81-4B75-A3F7-76645BEF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A3C7-6E85-40C2-8D47-07020918B757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143000" y="2571840"/>
            <a:ext cx="6643800" cy="599760"/>
            <a:chOff x="1143000" y="2571840"/>
            <a:chExt cx="6643800" cy="59976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13096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4429080" y="2590920"/>
              <a:ext cx="15145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2643120" y="2571840"/>
              <a:ext cx="17002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143000" y="2590920"/>
              <a:ext cx="144792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Formulating proposal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eneral Assemb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071880" y="304920"/>
              <a:ext cx="342900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pening General Assembl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ppointing Committe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357120" y="1600200"/>
            <a:ext cx="8429760" cy="971640"/>
            <a:chOff x="357120" y="1600200"/>
            <a:chExt cx="84297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205416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643280" y="1600200"/>
              <a:ext cx="20163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he-IL" sz="1800" spc="-1" strike="noStrike">
                  <a:solidFill>
                    <a:srgbClr val="000000"/>
                  </a:solidFill>
                  <a:latin typeface="Calibri"/>
                </a:rPr>
                <a:t>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50020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357120" y="1600200"/>
              <a:ext cx="20718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mmittee</a:t>
              </a:r>
              <a:r>
                <a:rPr b="1" lang="he-IL" sz="1600" spc="-1" strike="noStrike">
                  <a:solidFill>
                    <a:srgbClr val="000000"/>
                  </a:solidFill>
                  <a:latin typeface="Calibri"/>
                </a:rPr>
                <a:t> _______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86000" y="3214800"/>
            <a:ext cx="4589280" cy="1062360"/>
            <a:chOff x="2286000" y="3214800"/>
            <a:chExt cx="4589280" cy="1062360"/>
          </a:xfrm>
        </p:grpSpPr>
        <p:sp>
          <p:nvSpPr>
            <p:cNvPr id="70" name="Text Box 24"/>
            <p:cNvSpPr/>
            <p:nvPr/>
          </p:nvSpPr>
          <p:spPr>
            <a:xfrm>
              <a:off x="3803760" y="3573360"/>
              <a:ext cx="146700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teering committe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86000" y="3214800"/>
              <a:ext cx="1428840" cy="64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071960" y="321480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143320" y="3214800"/>
              <a:ext cx="22068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75080" y="3278160"/>
              <a:ext cx="160020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3929040" y="4869000"/>
            <a:ext cx="1328760" cy="1731600"/>
            <a:chOff x="3929040" y="4869000"/>
            <a:chExt cx="1328760" cy="1731600"/>
          </a:xfrm>
        </p:grpSpPr>
        <p:sp>
          <p:nvSpPr>
            <p:cNvPr id="76" name="Text Box 30"/>
            <p:cNvSpPr/>
            <p:nvPr/>
          </p:nvSpPr>
          <p:spPr>
            <a:xfrm>
              <a:off x="3929040" y="5181480"/>
              <a:ext cx="13287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t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1860840"/>
            <a:chOff x="5786280" y="4724280"/>
            <a:chExt cx="3129120" cy="186084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104796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comes a suggestion to the National &amp; World Veid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he snif is committed to i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3960" y="4524120"/>
            <a:ext cx="2974680" cy="2061000"/>
            <a:chOff x="453960" y="4524120"/>
            <a:chExt cx="2974680" cy="206100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 approv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2529000" cy="9464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ust be corrected by representatives of the committee and the steering committe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4120"/>
              <a:ext cx="2667240" cy="1587960"/>
            </a:xfrm>
            <a:prstGeom prst="bentConnector3">
              <a:avLst>
                <a:gd name="adj1" fmla="val -86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05:22:00Z</dcterms:created>
  <dc:creator>Ilan</dc:creator>
  <dc:description/>
  <dc:language>en-US</dc:language>
  <cp:lastModifiedBy>Ilan</cp:lastModifiedBy>
  <dcterms:modified xsi:type="dcterms:W3CDTF">2010-10-24T05:23:10Z</dcterms:modified>
  <cp:revision>1</cp:revision>
  <dc:subject/>
  <dc:title>Slide 1</dc:title>
</cp:coreProperties>
</file>